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1075-C435-453F-9DBE-70C0C0BE5C31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ACB7-BF0A-454A-874F-8ACD38BD75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11AE-7BDE-43C1-B591-0F44069093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Espace réservé du pied de pag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Espace réservé du pied de page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Espace réservé du numéro de diapositiv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8301-C868-48D9-BDA0-B7ECD00E69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Espace réservé du pied de page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Espace réservé du numéro de diapositiv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98CE-73FE-4CFE-B8B1-F598820DA2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CAF4-A12A-416D-A934-21C2830859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Espace réservé du pied de pag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B3EA-0716-4BBB-8FB9-AE8D9BD11D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2DF75-7FC8-42C5-A900-E38781FB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B9F647-01AF-4AE6-8C44-0BDF83C5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B30E64-4C77-4755-821A-AFCC61C0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6B6543-4735-438D-8547-371C6825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81A91C-4DDC-42B9-9652-4E34F6F3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E7CBC4-511C-4D23-9558-0DE48533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8D45BD-1601-42B3-8105-4BA70336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46FFE5-A75A-45BD-BF7D-AB26DB4C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0FC61F-CE76-4833-9E51-4A8105AA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C0D2D6-299B-44BF-92AB-2A09CA1F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4ED1E5-B47C-4013-96F3-040DEB4D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D772-D106-4935-90D1-DF663476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D6A94F-FFF7-4403-ADFF-4CFCCEC9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49EE2B-5A24-4002-9530-5826DF91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902DD6-F516-4596-AB78-E69F4019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0896B7-C5AD-4D47-BCFF-75E5DE4E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875D5A-5E5F-4AA3-B184-45644247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D34E16-B2AE-46BD-9E25-24666D1E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B14976-DE5D-4919-8D13-0EBF98B9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FBE85D-B37F-4AC2-9ECE-98C24FC3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A67402-C746-4D4D-A746-13D1CBC5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192CDF-1F56-4D73-BCAD-90C5CB01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5F338-EEB2-46B8-819A-9EF0DA9171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357155-F595-4CB9-8B21-44A890E6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5196F5-D531-491B-B974-F1164839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11F261-A6E0-47C5-A86A-13F0BD6E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C5AE4D-2176-44EF-B45D-DA290FB8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17AD87-4BED-4796-BEEE-337396AC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7502A2-C8EE-4D48-9DE1-CF11303F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832CCE-5E9F-432E-A329-256493CE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6FB65E-812B-4E0B-8C55-2C08FA4D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267035-0977-4F68-B2FB-EEC59A05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542DDE-1C78-43F4-9B4D-CF1BBBD3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44821-2F69-44C9-B831-E9DB2B34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43C659-23A1-4529-935E-14FEF8B8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1E3ECE-8347-467F-83AB-478B0F9D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DED119-D479-46B5-8217-A9300D12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6096DF-3440-43EE-9225-611D6CD3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B09D07-7DBC-426A-A896-5134FAC3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86E9D9-0EF1-4BDC-B258-9D013267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7B8A98-D3C4-42F1-A1EE-E9F96F24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AABF90-A1FB-4519-93AE-F78F395B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4AF7BC-B48B-4997-9327-DCF8645C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5EB04A-832E-4643-8F81-2FD68D17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08296-7268-474A-8157-643DFC02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74DBF7-7336-4D71-9C1E-3729828B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F9AF4C-26B0-467B-9B3A-E7237BF3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ACFB05-5CFF-409E-9B02-E4C1BAD8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112488-847B-42B4-ABA5-A2C4ECC7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778D19-DA84-43AA-89A9-69AB4D56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841CD-63AB-4D8D-9DBB-3475A09F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6D521-A4CE-4656-B4E0-331CFFA6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A5194-1223-4E8A-B212-9AFEF4A9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D3CE1-B8FA-4B9A-91D0-957C180F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E16BE-6954-4D22-8758-0112CC87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192F-7B1F-41C9-851F-681F1CC1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29B9A-08AD-4CCC-B642-03B5D005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A9F36-5CFA-4010-BAFC-386872C5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A1A7E-491B-49F4-BF18-40A58398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09BB4-83FA-437E-9189-C743F75B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9756A-8724-4EA7-82AF-FDA3ABC7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712F2-FDB1-4D06-B517-E46CAB4C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CC190-C0B8-4C41-B49E-BF30C2E3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366822-00CB-4111-9C72-E3B030CA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FCF0F-7912-47A5-9598-1700FF7C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8A6F1-302D-4F7D-B933-DA7CC062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1D4A-CDA0-4925-9498-4571AB6C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F45BF-08A3-4854-9CB4-0D8AE447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B8E61-4D71-48D9-849D-048817F6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A72DC-BE7D-4418-837C-D1482E50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0606F-5A98-444E-9922-9626686F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79490-30C7-4FCA-9BC9-4E8C3AE3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CB9A1-B64A-4725-A46E-2A1FFE9F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9C26E-0117-4962-A9CC-583B3056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6D8302-6944-47AD-BD99-D064C0EF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8560AE-DE71-41F5-8C67-6FC9F894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5128B2-C9DA-47BC-A320-2F20A8BE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0A16-F116-45C2-BFC0-794D727C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9A5ADF-5525-4F39-9AB4-CE4DBD1B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8BAECB-A507-434E-BABB-33208B89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F60C52-14ED-4C8A-B978-5C47A97C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6B1238-C00D-4D5D-A9A3-0933BF97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D7ADFB-87C4-4F62-8CB4-9D199D14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14A353-081E-4AF9-81EA-1C5B8658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B31EE9-2879-4EBE-BD0A-EA8747B3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54404-DAC0-4341-BBD6-930F05FF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2C5340-0358-4607-B2E5-2DEC17F3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37AE59-72C2-4DA9-A2AA-4D5C5DB0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BB68-7732-4745-B641-4298E10B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E6D18-8BF5-4428-AEEF-CCEC5578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05D6A7-F851-4E4F-8516-80967EB5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44666A-9B39-4637-BD83-22827969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BE67F-F4AC-4D4D-A9DE-9CDE3E08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FAC6E-8415-4C6C-BEAF-A8714C9A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7DCEC-5A38-4C6E-B632-FA4FF1CC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B1ABEC-3426-480B-9F4E-AD806D67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4EF4D-6E8D-4130-A95D-A5ADE015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A27330-6A87-41E7-9911-96661DB4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17A863-1B97-4A1E-AC88-21FAC5C9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B26B-6CA6-412A-B234-330435F7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9FD28-C51E-421E-B83F-8BC7A5C7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6E317D-A32E-4A81-938B-8F61812D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9F244-4406-461F-B88A-385687D7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901D4B-192D-44B0-9317-CBA14C03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AAF37-516C-4565-B2EC-EBB4DDB3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72F59E-03A8-472B-8527-75901695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9209A-9FA3-475F-B4EB-665F5130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914EC-AECA-4298-8963-C63BEFC5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735113-15CF-4FF5-A14C-A9A03A16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EE54ED-5430-462F-98D6-E5DB8839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956B-57AF-4C5B-BDCA-CFEFDD78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10BDC7-9909-4646-A164-1E2BE874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A229C6-2A99-4423-98FD-86101624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616426-7862-4868-A5C6-673A6695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378D7D-FF4E-497F-96C0-67E6A1AB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018753-F0CB-4CA3-9E86-9D5A309C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F5F7A3-8AB7-40E7-8C0D-C9F5B36C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74AF16-593F-4838-8097-20C24981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C17AF2-E89A-4282-84DD-60A2ED99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B3A3EB-1639-4777-8005-AE50F3C6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36DD0E-EDBA-4BE3-BD99-64399759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BD96-A217-4A5A-BD0D-F653BAA1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046A85-DA31-4FE0-9CFF-DB5CD710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09C672-6573-425B-8465-C550447A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F65137-EB3F-4AFE-9E4C-83062E87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1F7FE8-F395-4457-A131-A1E660C3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E75BB3-68E2-445E-B715-CD085D62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870137-B171-4163-9AD2-D80DB4E4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326695-EB3F-4DBB-92BD-CA6C5617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4D1538-04CC-45C4-A617-BFD97B3E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3243E7-CDDC-43FB-B818-8A48277A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936814-75AC-4FB1-B0DA-7E5E894C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9C07-FC27-45B9-92F1-BD7606E4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F4584E-9969-44ED-B642-2603E1BD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C0CC28-9CD8-4A88-A210-5D779765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C36ED5-5A0D-43FF-A421-A6DE0AA7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CEB1A2-3494-4937-B539-36634A26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A3FF7B-3691-4AF1-AADF-4E60FB43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24C230-61B0-4B5B-BEDD-CD6F3F62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000151-AA71-45C1-850A-88ECB9BE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CDA229-3E92-4A38-89C0-0A6778AC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B8803A-6CE7-4419-ADD9-9A3C9C38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73B5C5-CB1E-4F4B-9EE0-7FE43FBA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0A4D-0ED2-419E-A865-166CADA3B61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F0BD-5388-41E8-A338-DB0633D426C2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7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0EB8-E1DD-4007-B821-FFFF01833831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417E-13A5-4F31-BE45-F818D3AC796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30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13FD-8188-44C1-9F15-1145D088135F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7DA6-C730-48E5-BCB7-02AE2B8D99C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3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FBE4-DF06-40AB-BCFF-65D5272DFFA2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4531-5EEA-430F-9AE1-56ED1F13490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773D-D708-47C9-8098-A49BF42DBFB3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5274-3714-4167-9B85-8A3BAA1003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5A32-68F4-4EA7-821B-ADB82CF3BAE7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8572-3063-4D8B-A9C1-EDCC120AA9C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F226-CFD3-4FFC-A955-4064E80F5CEE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BD0D-8B0D-4246-B30A-EA4FA180EF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F071-3D4A-4BA9-B1AC-F2DD9C03B11D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7406-3A2B-4367-9CB6-1F6424530DA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1B09-94A8-43CD-8648-B85501A3516F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0182-FF69-4444-8B34-1C0EA1289D2F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8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06A3-A771-47D8-B10E-C6F6237B12AF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B3F9-87D2-41F6-B54E-B2ED1CAB2C4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1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4933-C056-49DB-B16C-F503EB681F32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2471-63B6-4C12-9560-ACDD71D2F96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4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5350-99BA-4668-A626-AB71785FFE5B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C1CB-1BDD-4CDF-B406-D26F2C7A63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randdictionnaire.com/btml/fra/r_motclef/index1024_1.asp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sp.ulaval.ca/docs/Le_plagiat_informer_sensibiliser_et_prevenir.pdf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sp.ulaval.ca/docs/Le_plagiat_informer_sensibiliser_et_prevenir.pdf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bliotheques.uqam.ca/plagiat" TargetMode="External"/><Relationship Id="rId2" Type="http://schemas.openxmlformats.org/officeDocument/2006/relationships/hyperlink" Target="http://passeurdesciences.blog.lemonde.fr/2012/01/26/le-plagiat-un-mal-qui-frappe-aussi-la-science/" TargetMode="External"/><Relationship Id="rId3" Type="http://schemas.openxmlformats.org/officeDocument/2006/relationships/hyperlink" Target="http://archeologie-copier-coller.com/?p=65" TargetMode="External"/><Relationship Id="rId4" Type="http://schemas.openxmlformats.org/officeDocument/2006/relationships/hyperlink" Target="http://archeologie-copier-coller.com/?p=65" TargetMode="External"/><Relationship Id="rId5" Type="http://schemas.openxmlformats.org/officeDocument/2006/relationships/hyperlink" Target="http://archeologie-copier-coller.com/?p=65" TargetMode="External"/><Relationship Id="rId6" Type="http://schemas.openxmlformats.org/officeDocument/2006/relationships/hyperlink" Target="http://archeologie-copier-coller.com/?p=2499" TargetMode="External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34920" y="178128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a50021"/>
                </a:solidFill>
                <a:latin typeface="Arial"/>
              </a:rPr>
              <a:t>Qu’est ce que le plagiat ?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2"/>
          <p:cNvSpPr/>
          <p:nvPr/>
        </p:nvSpPr>
        <p:spPr>
          <a:xfrm>
            <a:off x="34920" y="4086360"/>
            <a:ext cx="8964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Palatino Linotype"/>
              </a:rPr>
              <a:t>Document préparé p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Palatino Linotype"/>
              </a:rPr>
              <a:t>Frédéric Isel et Yves Goubat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a50021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Université Paris Descar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 </a:t>
            </a: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Espace réservé du pied de page 7"/>
          <p:cNvSpPr/>
          <p:nvPr/>
        </p:nvSpPr>
        <p:spPr>
          <a:xfrm>
            <a:off x="360360" y="6381720"/>
            <a:ext cx="1018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© Université Paris Nanterre – UFR PHILLIA - Département de sciences du langa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Image 8" descr="UPL_logo.png"/>
          <p:cNvPicPr/>
          <p:nvPr/>
        </p:nvPicPr>
        <p:blipFill>
          <a:blip r:embed="rId1"/>
          <a:stretch/>
        </p:blipFill>
        <p:spPr>
          <a:xfrm>
            <a:off x="4519440" y="189000"/>
            <a:ext cx="2068560" cy="1079280"/>
          </a:xfrm>
          <a:prstGeom prst="rect">
            <a:avLst/>
          </a:prstGeom>
          <a:ln w="0">
            <a:noFill/>
          </a:ln>
        </p:spPr>
      </p:pic>
      <p:pic>
        <p:nvPicPr>
          <p:cNvPr id="502" name="Image 6" descr=""/>
          <p:cNvPicPr/>
          <p:nvPr/>
        </p:nvPicPr>
        <p:blipFill>
          <a:blip r:embed="rId2"/>
          <a:stretch/>
        </p:blipFill>
        <p:spPr>
          <a:xfrm>
            <a:off x="324000" y="152280"/>
            <a:ext cx="3690720" cy="1116000"/>
          </a:xfrm>
          <a:prstGeom prst="rect">
            <a:avLst/>
          </a:prstGeom>
          <a:ln w="0">
            <a:noFill/>
          </a:ln>
        </p:spPr>
      </p:pic>
      <p:pic>
        <p:nvPicPr>
          <p:cNvPr id="503" name="Image 1" descr=""/>
          <p:cNvPicPr/>
          <p:nvPr/>
        </p:nvPicPr>
        <p:blipFill>
          <a:blip r:embed="rId3"/>
          <a:stretch/>
        </p:blipFill>
        <p:spPr>
          <a:xfrm>
            <a:off x="6877080" y="160200"/>
            <a:ext cx="18651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108000" y="115920"/>
            <a:ext cx="856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a50021"/>
                </a:solidFill>
                <a:latin typeface="Arial"/>
              </a:rPr>
              <a:t>Informer, Sensibiliser, Prévenir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0" y="1916280"/>
            <a:ext cx="91440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e plagiat : informer, sensibiliser et préven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   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Ressource Université Laval, Québec, Canad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Quiz sur le plagiat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Ressource Université Laval, Québec, Canad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E5A0-F414-4233-B716-2CFB9FF79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108000" y="115920"/>
            <a:ext cx="856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a50021"/>
                </a:solidFill>
                <a:latin typeface="Arial"/>
              </a:rPr>
              <a:t>Références bibliographiques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DD7C-169F-46BA-A61C-531DF402D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oneTexte 5"/>
          <p:cNvSpPr/>
          <p:nvPr/>
        </p:nvSpPr>
        <p:spPr>
          <a:xfrm>
            <a:off x="179280" y="1324080"/>
            <a:ext cx="89647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Battisti, M. (2009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Des clics et des droits : le droit appliqué à l’image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ADBS édi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Battisti, M., &amp; Association française des documentalistes et des bibliothécaires spécialisés. (2012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Quels droits pour copier aujourd’hui ? : copier et diffuser une œuvre dans l’environnement numérique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ADBS éditions. En ligne : </a:t>
            </a:r>
            <a:br>
              <a:rPr sz="2000"/>
            </a:br>
            <a:r>
              <a:rPr b="0" lang="fr-FR" sz="1600" spc="-1" strike="noStrike">
                <a:solidFill>
                  <a:srgbClr val="000000"/>
                </a:solidFill>
                <a:latin typeface="Ebrima"/>
              </a:rPr>
              <a:t>https://frodon.univ-paris5.fr/http/parisdescartes.immateriel.fr/fr/ebook/978284365139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Maurel-Indart, H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Du plagiat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Gallim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Moreau, É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Les droits d’auteur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Transvalor-Presses des Mi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Stérin, A.-L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Guide pratique du droit d’auteur : utiliser en toute légalité textes, photos, films, musiques, Internet. 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Paris : Maxima-Laurent Du Mesnil é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504720" y="115920"/>
            <a:ext cx="896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50021"/>
                </a:solidFill>
                <a:latin typeface="Arial"/>
                <a:ea typeface="Arial"/>
              </a:rPr>
              <a:t>Le plagiat :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95280" y="1484280"/>
            <a:ext cx="820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Plusieurs définitions et plusieurs formes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95280" y="2997360"/>
            <a:ext cx="914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Définition du grand dictionnaire terminologique :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« Utilisation des écrits d'autrui sans mention d'emprunt » 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(</a:t>
            </a:r>
            <a:r>
              <a:rPr b="0" lang="fr-FR" sz="26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Office de la langue française, 1990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0286-7A28-49F0-9EFC-FDA535F1F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us généralement, « le 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plagia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consiste à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0" y="141300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s’attribuer</a:t>
            </a:r>
            <a:r>
              <a:rPr b="0" lang="en-GB" sz="2800" spc="-1" strike="noStrike">
                <a:solidFill>
                  <a:srgbClr val="000000"/>
                </a:solidFill>
                <a:latin typeface="Ebrima"/>
              </a:rPr>
              <a:t> les propos, les productions ou les idées d’autrui, sans citer la source ou l’auteur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0" y="2565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s’approprier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contenus disponibles sur Internet, en format texte, audio, vidéo, image ou autre sans citer la source ou en paraphrasant de manière inadéquat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-1440" y="4292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agir de manière à contourner les règl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énoncées lors des travaux d’évaluation.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576B-B6E2-4EF6-AE82-0B8DFB603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a50021"/>
                </a:solidFill>
                <a:latin typeface="Arial"/>
              </a:rPr>
              <a:t>Pratiques associées au copier-coller 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0" y="105264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Copier</a:t>
            </a:r>
            <a:r>
              <a:rPr b="0" lang="en-GB" sz="2800" spc="-1" strike="noStrike">
                <a:solidFill>
                  <a:srgbClr val="a50021"/>
                </a:solidFill>
                <a:latin typeface="Ebrima"/>
              </a:rPr>
              <a:t> </a:t>
            </a: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le travail d’un étudiant </a:t>
            </a:r>
            <a:r>
              <a:rPr b="0" lang="en-GB" sz="2800" spc="-1" strike="noStrike">
                <a:solidFill>
                  <a:srgbClr val="000000"/>
                </a:solidFill>
                <a:latin typeface="Ebrima"/>
              </a:rPr>
              <a:t>ayant suivi le cours lors d’une session précédent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0" y="213372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Réaliser un travail en mode copier-colle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à partir de plusieurs sources non citées ou non contextualisée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-1440" y="314172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Changer uniquement quelques mot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 copier le texte intégralement (plagiat délibéré ou paraphraser de manière inadéquate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6360" y="458136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Citer en omettan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guillemet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36360" y="515772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Résumer sans attribue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idée à l’aut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1D49-A269-4BEE-965E-B4AE3C91F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oneTexte 14"/>
          <p:cNvSpPr/>
          <p:nvPr/>
        </p:nvSpPr>
        <p:spPr>
          <a:xfrm>
            <a:off x="179280" y="5837400"/>
            <a:ext cx="87854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Source : 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http://www.bsp.ulaval.ca/docs/Le_plagiat_informer_sensibiliser_et_prevenir.pd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(Université Laval, Québec, Canad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4920" y="115920"/>
            <a:ext cx="93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Ebrima"/>
              </a:rPr>
              <a:t>Plusieurs facteurs peuvent amener un.e étudiant.e à plagier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0" y="836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ne sait pas comment faire le travail demandé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-1440" y="1486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a de la difficulté à s’organiser et à gérer son temps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-36360" y="2131920"/>
            <a:ext cx="943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manque d’expérience en matière de bonnes pratiques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36360" y="278136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eut contourner les exigences ; il/elle pense que l’enseignant ne s’en rendra pas compt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34920" y="378936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ise uniquement à obtenir la note de passag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6360" y="436572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eut défier l’autorité ou perçoit qu’il y a peu de conséquences au plagiat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6360" y="537372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a peu d’intérêt pour le cours ou pour le champ d’étu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568B-1F3E-4A25-8E42-5CCB84CA1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ZoneTexte 11"/>
          <p:cNvSpPr/>
          <p:nvPr/>
        </p:nvSpPr>
        <p:spPr>
          <a:xfrm>
            <a:off x="179280" y="6275520"/>
            <a:ext cx="87854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Source : 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</a:rPr>
              <a:t>http://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www.bsp.ulaval.ca/docs/Le_plagiat_informer_sensibiliser_et_prevenir.pd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(Université Laval, Québec, Canad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34920" y="-100080"/>
            <a:ext cx="504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Le plagiat : 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105264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Il s’agit d’un 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acte frauduleux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qui, lorsqu’il est découvert dans les travaux universitaires, est </a:t>
            </a:r>
            <a:r>
              <a:rPr b="1" lang="fr-FR" sz="2600" spc="-1" strike="noStrike">
                <a:solidFill>
                  <a:srgbClr val="a50021"/>
                </a:solidFill>
                <a:latin typeface="Ebrima"/>
              </a:rPr>
              <a:t>sanctionné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240" y="3068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ogiciel d’aide à la 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détection de plagiat (Compilatio.net)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vérification des contenus numériques (étudiants/enseignant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0" y="4292640"/>
            <a:ext cx="91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Attention : ce n’est pas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parce qu’un document ou une information est librement accessible sur internet qu’elle peut être utilisée sans en mentionner l’auteur et l’origin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0" y="5805360"/>
            <a:ext cx="9144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Toute utilisation d’un texte d’autrui </a:t>
            </a:r>
            <a:r>
              <a:rPr b="1" lang="en-GB" sz="2600" spc="-1" strike="noStrike">
                <a:solidFill>
                  <a:srgbClr val="a50021"/>
                </a:solidFill>
                <a:latin typeface="Ebrima"/>
              </a:rPr>
              <a:t>doit respecter </a:t>
            </a:r>
            <a:r>
              <a:rPr b="0" lang="en-GB" sz="2600" spc="-1" strike="noStrike">
                <a:solidFill>
                  <a:srgbClr val="a50021"/>
                </a:solidFill>
                <a:latin typeface="Ebrima"/>
              </a:rPr>
              <a:t>les règles de ci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338B-52DC-4847-BBD1-99BBE4395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213372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es étudiants convaincus de plagiat peuvent être traduits devant la </a:t>
            </a:r>
            <a:r>
              <a:rPr b="0" lang="fr-FR" sz="2600" spc="-1" strike="noStrike">
                <a:solidFill>
                  <a:srgbClr val="c00000"/>
                </a:solidFill>
                <a:latin typeface="Ebrima"/>
              </a:rPr>
              <a:t>section disciplinaire de l'Université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4920" y="-162000"/>
            <a:ext cx="1130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Sanctions disciplinaires applicables :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0" y="105264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En fonction de la gravité des faits, les sanctions disciplinaires applicables aux usagers sont les suivantes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ED09-4BDF-4D08-8B56-EDD001877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2709720"/>
            <a:ext cx="9144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’avertissement, le blâme, l’exclusion temporaire pour une durée maximale de cinq ans ou l’exclusion définitive de l’université ou de tout établissement public d’enseignement supérieur, avec ou sans sursis.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179280" y="115920"/>
            <a:ext cx="85694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Lectures web sur le plagiat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ZoneTexte 3"/>
          <p:cNvSpPr/>
          <p:nvPr/>
        </p:nvSpPr>
        <p:spPr>
          <a:xfrm>
            <a:off x="250920" y="1557360"/>
            <a:ext cx="84978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Le plagiat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Service des bibliothèques de l'Université du Québec à Montré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2"/>
              </a:rPr>
              <a:t>Le plagiat, un mal qui frappe aussi la science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Passeur de sciences »,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3"/>
              </a:rPr>
              <a:t>« Février 2006 : bilan de l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4"/>
              </a:rPr>
              <a:t>’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5"/>
              </a:rPr>
              <a:t>analyse de 30 mémoires de DEA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Archéologie du copier-coller », 200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6"/>
              </a:rPr>
              <a:t>Les bibliothécaires face aux thèses plagiats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Archéologie du copier-coller », 20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B23E-6EC0-4011-B1F4-F290E7498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50920" y="442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Tutoriels sur le plagiat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0" y="1413000"/>
            <a:ext cx="9144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Comment éviter le plagiat ?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»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Service des bibliothèques de l'Université du Québec à Montré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« Comment citer dans le texte ?</a:t>
            </a: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»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Service des bibliothèques de l'Université du Québec à Montré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9D7D-E0C8-4561-B16A-4D528AEB9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8:53:43Z</dcterms:created>
  <dc:creator>François</dc:creator>
  <dc:description/>
  <dc:language>en-US</dc:language>
  <cp:lastModifiedBy>lacheret</cp:lastModifiedBy>
  <dcterms:modified xsi:type="dcterms:W3CDTF">2018-09-21T12:42:16Z</dcterms:modified>
  <cp:revision>96</cp:revision>
  <dc:subject/>
  <dc:title>Slide 1</dc:title>
</cp:coreProperties>
</file>